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2C17-0FF4-4495-B297-EAC8CF60D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A34C-DFC2-4879-8D2E-8212D1AD54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AB39-6EED-4510-8882-2205CBC3CE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BEE6-CF48-4A9A-B06C-98EEC93679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318C-1B5C-45A9-9E29-68067CB5F2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4CD7-C7B3-484C-BE8A-ACDDE41C16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51C2-E791-46E2-B09A-08906460F5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3DD4-0033-41D5-B29F-0FCB5F57C8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C038D2A-BF51-45AB-B5AE-93B0A1312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6A63354-54D8-4FAE-AAD5-E2CE93EDC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D38CEDD-A9B6-4D60-B52F-A65F06A2B9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8700198-8108-484B-A736-2C34C6C479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F89F1EF-B9D9-435F-B76B-3FF9F98526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6B399CF-D751-41A5-8CB4-3B0573F4E8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5EE3340-96ED-4C61-A6C0-07585D6D76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9EDFD97-1D6E-43C3-9E16-C3F5094EF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FD944CB-AC06-4B0F-BEEC-49070A341B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1F23DE2-6188-4BC1-9ECA-A769865D8D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E2B712B-D4E4-4A71-B9DE-EA8CBA5663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2FA1830-B8D7-4BED-80EE-C9E04DDA66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561955D-F217-4A72-86E7-A2C64AD367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3967D96-D8FF-4C14-B682-15DCD352A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62078A-2943-4A18-A573-AE8941A32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2220CA-3E5F-4451-AF4D-A74FF5CFC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F9D269-A967-48F5-BC90-A517F9C46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275C07-164C-449E-AD6C-26940E43A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FC75D6-6269-42A8-B81A-894C34AAF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F06147-9FBA-4E7C-B557-0C9505F7C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F758C88-6E82-44AF-ACB5-C1283DC7C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BBF34F-4D88-4ABA-AF64-6380A8EB0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9DE06D-4CD4-4854-8D0D-E181B666A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EFBCF7B-13FC-4679-B02F-A8EB9AD54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2E8ED6-6ED3-41FA-9381-F2857EA57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1ECD2F8-2516-4541-997F-C0AA15FF0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349A33-6F93-4CE4-81B5-7AA0860856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C29BD-C4D4-4AB8-BBE2-5E70BB855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51A701-C6B2-4037-86BE-45C58A8F70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27586-FE8B-496A-9813-E94237C9B8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D3127-C05E-40D2-B9CC-F3B62850D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07C1989-0C76-4152-8EB3-77F5A990A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3CAFF-1E22-4953-97B3-C660177EA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D2AF2B-2584-452F-8769-7E6E55084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1DE5D-2E43-4F9C-8C1D-E4D20A44D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60D79-D3E7-4A34-A8DB-97B9F3B17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5D195-7B15-473B-AD60-1B95C3890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A1FE63-3AA3-4D46-A769-2694B4DEB0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E6C5F-8494-4559-BB38-023684B45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48C6771-8C14-4D0C-85DB-3048DB0037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CD71BF5-029C-4179-8A82-684E99026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46FAB4-0F88-4174-B2BE-7BE35346F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DA13474-562D-4450-ABF3-8AB67699B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30E2FD-3226-498C-8E95-ADBD3AE3E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4F13CA-76F8-48F5-A34A-2FF5227C3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8A1DC2-9E68-4DBC-B449-0760C9D35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69630E-F529-4FAB-A230-8C00627E0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AFB6A4-CBF7-4995-8E70-8472363CD1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4CB91A-99A0-4237-83C8-DFF1B8E4C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E8494B-8D73-41FD-B52C-EAC41AF6A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29082F1-832F-41F2-9C4C-0EB1DE405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7F93438-C30B-4126-ACF1-9B1D4934B4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ECF7FE-75A1-4E2C-B34A-A9EDB0FD0B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D325CA6-2078-4094-82C9-A08D20B3C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556F52-92E2-43EF-BEB1-1D3DCCD4C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A616AE-A658-4984-9F0F-90CAC0D990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FAC28-1B16-4E4B-9ADA-83FE9642ED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1CB8D-0E7D-4D8E-A596-04D269834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D8896C-A2AE-4A60-8CFF-FC5F40F91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70F57-B590-4FD9-B4BF-19CC7DB7D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C1F8C-A995-46D7-9E4D-3AF2862D8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61323-D888-4F42-9981-ECB0D03691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F49318-F989-4E30-ABFC-69F207D77C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5C9ABA-5929-4CA8-A1AA-767473464B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D6A1D29-0C65-40F6-81C3-8306D10FD1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6B85C4-320C-43B0-B31F-6FB7EEA834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5C182B-482C-4948-8067-F7564F3CD0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ABA40B-0B5C-47E5-8F87-E47ABC94C0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82F048-AE50-4218-8BC8-93DE5BA936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43753E-534F-4FB1-BDF7-855D73654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E07E84-F198-4A22-ACA3-5CEED5615C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D63369-7E7A-4FC5-99DD-047FF2E674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F7ACC-39CF-4866-9727-6261DAAEC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F3AC1-817A-4D31-A670-6EA2C740B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E7A67-5A2A-4175-99B6-A727785BB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75EBA36-BB62-4860-B210-1D79B8705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F9B34A-FC57-408F-B0D4-0DA5F5AC7F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757AE3-D158-4F3B-A7A2-1B520AF0DC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AFA3D8-7134-4B37-B9F3-44DE70F11D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2DC5CF-6EAA-4AB6-AEAF-1094EEC148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522C85-A1ED-48AE-A6E1-B4EE0C45D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D6D842-14F5-497B-AE81-53914EE17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C22D43-1E21-4F38-8151-9614145C2F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8BDCC-C22F-4A57-8822-F24BAB8C2D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2082EA-7A95-4B8D-BAB9-473D74617D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5AFE9-F317-47F6-A430-1F98A7C9E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EF1358A-9123-45CF-8CBB-AD57DA57BF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51776-6CD6-446B-9EDD-E1B3BF7F5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48825C-E500-482E-9DF9-169309F8E3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2EF191-12B5-4361-BC0D-8FCCCD3093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17E5BA-CD3F-4E58-B8B4-C66C23FF35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031A53-6384-4E8C-881B-7C38632367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10F0434D-3ABE-405B-BD00-72615ED970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C8DC3B3-C2E0-41A2-AE04-EBE822314E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3E5D0A7-9CA8-49C9-A5AC-9449422B1D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FDD6F0C-8DF8-4EF8-8A61-A288C81F88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98D06B0-F309-4A28-BDE9-E2AFE3E8B6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BF35FD9-9BCA-48A2-B6CE-E0A94F75A7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1EC6631-572D-418E-9113-0AC4286E59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18881F2-CAC1-43CB-8BDC-ED7CF284C1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47D4D2A-6BC9-4086-8EC6-C90039E4E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1568460-7DC6-45EE-BB8A-81BD47108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586F476-371E-45AC-BC01-B8B4475468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E1EEF4A-33C0-405A-82BE-F0ABA8536E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60C65D8-6E12-4694-80A7-589E9C806D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84FF74CD-84A8-4502-9D4E-4F29A047D4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C38006B-0765-484D-83F3-F6A09E05AE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FC8230F-FFAC-4073-8E6A-84E5CDFBDD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E031-1651-4F0C-895B-025CDD45412D}"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E4CA-71F4-4BDD-A980-B05EF5B07F60}"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9D03-FA4C-4BD3-9351-CEC0EEDD8C7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9DA8-FB63-4ADF-A5BC-84C956FAD057}"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F9EE-79BA-45FE-B313-CED79036E23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ED25-00D7-40AC-A964-76FC34B489B0}"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11D0-0D0F-4C62-8D31-1B87EFD6BC1F}"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045B-0015-4BE3-BAAE-12C0E3A48C2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45AD-0420-4DE7-A004-183BD0127D20}"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82520" y="378000"/>
            <a:ext cx="8772480" cy="2232000"/>
          </a:xfrm>
          <a:prstGeom prst="rect">
            <a:avLst/>
          </a:prstGeom>
          <a:ln w="0">
            <a:noFill/>
          </a:ln>
        </p:spPr>
      </p:pic>
      <p:sp>
        <p:nvSpPr>
          <p:cNvPr id="402"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FL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158760" y="249120"/>
            <a:ext cx="8783640" cy="11588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Alfabetismo funcional</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Calidad de la educación </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Simple </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Rápida</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0720" y="249120"/>
            <a:ext cx="8541000" cy="116532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fontScale="96000"/>
          </a:bodyPr>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Línea base y evaluación </a:t>
            </a:r>
            <a:endParaRPr b="0" lang="en-US" sz="40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Ambientes de aprendizaje estructurado</a:t>
            </a:r>
            <a:endParaRPr b="0" lang="en-US" sz="40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Con otra herramienta </a:t>
            </a:r>
            <a:endParaRPr b="0" lang="en-US" sz="4000" spc="-1" strike="noStrike">
              <a:solidFill>
                <a:srgbClr val="ffffff"/>
              </a:solidFill>
              <a:latin typeface="Rockwell"/>
            </a:endParaRPr>
          </a:p>
          <a:p>
            <a:pPr lvl="1" marL="613800" indent="-21924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Encuesta a los responsables</a:t>
            </a:r>
            <a:endParaRPr b="0" lang="en-US" sz="3200" spc="-1" strike="noStrike">
              <a:solidFill>
                <a:srgbClr val="ffffff"/>
              </a:solidFill>
              <a:latin typeface="Rockwell"/>
            </a:endParaRPr>
          </a:p>
          <a:p>
            <a:pPr lvl="1" marL="613800" indent="-21924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Encuesta del comportamiento sano de los jóvenes </a:t>
            </a:r>
            <a:endParaRPr b="0" lang="en-US" sz="32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Con niños(as) posprimaria</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541000" cy="116532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Letras</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Palabras </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Párrafo</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Historia y comprensión </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Material local y comprensión</a:t>
            </a:r>
            <a:endParaRPr b="0" lang="en-US" sz="40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AutoShape 10"/>
          <p:cNvSpPr/>
          <p:nvPr/>
        </p:nvSpPr>
        <p:spPr>
          <a:xfrm>
            <a:off x="1295280" y="1295280"/>
            <a:ext cx="3657600" cy="191088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Éste es un mono grand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Él vive en un árbol.</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le gusta brinc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también le gustan los plátanos.</a:t>
            </a:r>
            <a:endParaRPr b="0" lang="en-US" sz="2200" spc="-1" strike="noStrike">
              <a:solidFill>
                <a:srgbClr val="ffffff"/>
              </a:solidFill>
              <a:latin typeface="Arial"/>
            </a:endParaRPr>
          </a:p>
        </p:txBody>
      </p:sp>
      <p:sp>
        <p:nvSpPr>
          <p:cNvPr id="411" name="AutoShape 9"/>
          <p:cNvSpPr/>
          <p:nvPr/>
        </p:nvSpPr>
        <p:spPr>
          <a:xfrm>
            <a:off x="1371600" y="4038480"/>
            <a:ext cx="3657600" cy="191088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aúl tiene seis años de edad.</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le encanta estudi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También le gusta jug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aúl va a la escuela.</a:t>
            </a:r>
            <a:endParaRPr b="0" lang="en-US" sz="2200" spc="-1" strike="noStrike">
              <a:solidFill>
                <a:srgbClr val="ffffff"/>
              </a:solidFill>
              <a:latin typeface="Arial"/>
            </a:endParaRPr>
          </a:p>
        </p:txBody>
      </p:sp>
      <p:sp>
        <p:nvSpPr>
          <p:cNvPr id="412" name="AutoShape 8"/>
          <p:cNvSpPr/>
          <p:nvPr/>
        </p:nvSpPr>
        <p:spPr>
          <a:xfrm>
            <a:off x="5410080" y="1295280"/>
            <a:ext cx="3040200" cy="443412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Había un gran árbol de pie en un jardín. Estaba solo y se sentía solo. Un día un pájaro vino y se sentó sobre él. El pájaro tenía una semilla en su pico. Dejó caer la semilla cerca del árbol. Una planta pequeña creció ahí. Pronto había muchos más árboles. El árbol grande estaba feliz.</a:t>
            </a:r>
            <a:endParaRPr b="0" lang="en-US" sz="2000" spc="-1" strike="noStrike">
              <a:solidFill>
                <a:srgbClr val="ffffff"/>
              </a:solidFill>
              <a:latin typeface="Arial"/>
            </a:endParaRPr>
          </a:p>
        </p:txBody>
      </p:sp>
      <p:sp>
        <p:nvSpPr>
          <p:cNvPr id="413" name="Text Box 7"/>
          <p:cNvSpPr/>
          <p:nvPr/>
        </p:nvSpPr>
        <p:spPr>
          <a:xfrm>
            <a:off x="1676520" y="1066680"/>
            <a:ext cx="80460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árrafo</a:t>
            </a:r>
            <a:endParaRPr b="0" lang="en-US" sz="1100" spc="-1" strike="noStrike">
              <a:solidFill>
                <a:srgbClr val="ffffff"/>
              </a:solidFill>
              <a:latin typeface="Arial"/>
            </a:endParaRPr>
          </a:p>
        </p:txBody>
      </p:sp>
      <p:sp>
        <p:nvSpPr>
          <p:cNvPr id="414" name="Text Box 6"/>
          <p:cNvSpPr/>
          <p:nvPr/>
        </p:nvSpPr>
        <p:spPr>
          <a:xfrm>
            <a:off x="1752480" y="3809880"/>
            <a:ext cx="91440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árrafo</a:t>
            </a:r>
            <a:endParaRPr b="0" lang="en-US" sz="1100" spc="-1" strike="noStrike">
              <a:solidFill>
                <a:srgbClr val="ffffff"/>
              </a:solidFill>
              <a:latin typeface="Arial"/>
            </a:endParaRPr>
          </a:p>
        </p:txBody>
      </p:sp>
      <p:sp>
        <p:nvSpPr>
          <p:cNvPr id="415" name="Text Box 5"/>
          <p:cNvSpPr/>
          <p:nvPr/>
        </p:nvSpPr>
        <p:spPr>
          <a:xfrm>
            <a:off x="7086600" y="1066680"/>
            <a:ext cx="932040" cy="35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Historia</a:t>
            </a:r>
            <a:endParaRPr b="0" lang="en-US" sz="1100" spc="-1" strike="noStrike">
              <a:solidFill>
                <a:srgbClr val="ffffff"/>
              </a:solidFill>
              <a:latin typeface="Arial"/>
            </a:endParaRPr>
          </a:p>
        </p:txBody>
      </p:sp>
      <p:sp>
        <p:nvSpPr>
          <p:cNvPr id="416" name="Text Box 4"/>
          <p:cNvSpPr/>
          <p:nvPr/>
        </p:nvSpPr>
        <p:spPr>
          <a:xfrm>
            <a:off x="609480" y="1828800"/>
            <a:ext cx="381240" cy="31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Muestra - I</a:t>
            </a:r>
            <a:endParaRPr b="0" lang="en-US" sz="1400" spc="-1" strike="noStrike">
              <a:solidFill>
                <a:srgbClr val="ffffff"/>
              </a:solidFill>
              <a:latin typeface="Arial"/>
            </a:endParaRPr>
          </a:p>
        </p:txBody>
      </p:sp>
      <p:sp>
        <p:nvSpPr>
          <p:cNvPr id="417" name="Rectangle 19"/>
          <p:cNvSpPr/>
          <p:nvPr/>
        </p:nvSpPr>
        <p:spPr>
          <a:xfrm>
            <a:off x="762120" y="381240"/>
            <a:ext cx="51814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ídale al niño o niña que escoja un párrafo para le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AutoShape 5"/>
          <p:cNvSpPr/>
          <p:nvPr/>
        </p:nvSpPr>
        <p:spPr>
          <a:xfrm>
            <a:off x="533520" y="914400"/>
            <a:ext cx="3124080" cy="417816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a:t>
            </a:r>
            <a:r>
              <a:rPr b="1" lang="es-ES" sz="4000" spc="-1" strike="noStrike">
                <a:solidFill>
                  <a:srgbClr val="000000"/>
                </a:solidFill>
                <a:latin typeface="Calibri"/>
              </a:rPr>
              <a:t>	</a:t>
            </a:r>
            <a:r>
              <a:rPr b="1" lang="es-ES" sz="4000" spc="-1" strike="noStrike">
                <a:solidFill>
                  <a:srgbClr val="000000"/>
                </a:solidFill>
                <a:latin typeface="Calibri"/>
              </a:rPr>
              <a:t>t</a:t>
            </a:r>
            <a:r>
              <a:rPr b="1" lang="es-ES" sz="4000" spc="-1" strike="noStrike">
                <a:solidFill>
                  <a:srgbClr val="000000"/>
                </a:solidFill>
                <a:latin typeface="Calibri"/>
              </a:rPr>
              <a:t>	</a:t>
            </a:r>
            <a:r>
              <a:rPr b="1" lang="es-ES" sz="4000" spc="-1" strike="noStrike">
                <a:solidFill>
                  <a:srgbClr val="000000"/>
                </a:solidFill>
                <a:latin typeface="Calibri"/>
              </a:rPr>
              <a:t>	</a:t>
            </a:r>
            <a:r>
              <a:rPr b="1" lang="es-ES" sz="4000" spc="-1" strike="noStrike">
                <a:solidFill>
                  <a:srgbClr val="000000"/>
                </a:solidFill>
                <a:latin typeface="Calibri"/>
              </a:rPr>
              <a:t>z</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f</a:t>
            </a:r>
            <a:r>
              <a:rPr b="1" lang="es-ES" sz="4000" spc="-1" strike="noStrike">
                <a:solidFill>
                  <a:srgbClr val="000000"/>
                </a:solidFill>
                <a:latin typeface="Calibri"/>
              </a:rPr>
              <a:t>	</a:t>
            </a:r>
            <a:r>
              <a:rPr b="1" lang="es-ES" sz="4000" spc="-1" strike="noStrike">
                <a:solidFill>
                  <a:srgbClr val="000000"/>
                </a:solidFill>
                <a:latin typeface="Calibri"/>
              </a:rPr>
              <a:t>k</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a:t>
            </a:r>
            <a:r>
              <a:rPr b="1" lang="es-ES" sz="4000" spc="-1" strike="noStrike">
                <a:solidFill>
                  <a:srgbClr val="000000"/>
                </a:solidFill>
                <a:latin typeface="Calibri"/>
              </a:rPr>
              <a:t>	</a:t>
            </a:r>
            <a:r>
              <a:rPr b="1" lang="es-ES" sz="4000" spc="-1" strike="noStrike">
                <a:solidFill>
                  <a:srgbClr val="000000"/>
                </a:solidFill>
                <a:latin typeface="Calibri"/>
              </a:rPr>
              <a:t>	</a:t>
            </a:r>
            <a:r>
              <a:rPr b="1" lang="es-ES" sz="4000" spc="-1" strike="noStrike">
                <a:solidFill>
                  <a:srgbClr val="000000"/>
                </a:solidFill>
                <a:latin typeface="Calibri"/>
              </a:rPr>
              <a:t>a</a:t>
            </a:r>
            <a:r>
              <a:rPr b="1" lang="es-ES" sz="4000" spc="-1" strike="noStrike">
                <a:solidFill>
                  <a:srgbClr val="000000"/>
                </a:solidFill>
                <a:latin typeface="Calibri"/>
              </a:rPr>
              <a:t>	</a:t>
            </a:r>
            <a:r>
              <a:rPr b="1" lang="es-ES" sz="4000" spc="-1" strike="noStrike">
                <a:solidFill>
                  <a:srgbClr val="000000"/>
                </a:solidFill>
                <a:latin typeface="Calibri"/>
              </a:rPr>
              <a:t>r</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v</a:t>
            </a:r>
            <a:r>
              <a:rPr b="1" lang="es-ES" sz="4000" spc="-1" strike="noStrike">
                <a:solidFill>
                  <a:srgbClr val="000000"/>
                </a:solidFill>
                <a:latin typeface="Calibri"/>
              </a:rPr>
              <a:t>	</a:t>
            </a:r>
            <a:r>
              <a:rPr b="1" lang="es-ES" sz="4000" spc="-1" strike="noStrike">
                <a:solidFill>
                  <a:srgbClr val="000000"/>
                </a:solidFill>
                <a:latin typeface="Calibri"/>
              </a:rPr>
              <a:t>p</a:t>
            </a:r>
            <a:endParaRPr b="0" lang="en-US" sz="4000" spc="-1" strike="noStrike">
              <a:solidFill>
                <a:srgbClr val="ffffff"/>
              </a:solidFill>
              <a:latin typeface="Arial"/>
            </a:endParaRPr>
          </a:p>
        </p:txBody>
      </p:sp>
      <p:sp>
        <p:nvSpPr>
          <p:cNvPr id="419" name="AutoShape 8"/>
          <p:cNvSpPr/>
          <p:nvPr/>
        </p:nvSpPr>
        <p:spPr>
          <a:xfrm>
            <a:off x="4419720" y="914400"/>
            <a:ext cx="4038480" cy="427356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mbos</a:t>
            </a:r>
            <a:r>
              <a:rPr b="1" lang="es-ES" sz="3200" spc="-1" strike="noStrike">
                <a:solidFill>
                  <a:srgbClr val="000000"/>
                </a:solidFill>
                <a:latin typeface="Calibri"/>
              </a:rPr>
              <a:t>	</a:t>
            </a:r>
            <a:r>
              <a:rPr b="1" lang="es-ES" sz="3200" spc="-1" strike="noStrike">
                <a:solidFill>
                  <a:srgbClr val="000000"/>
                </a:solidFill>
                <a:latin typeface="Calibri"/>
              </a:rPr>
              <a:t>paso</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1" lang="es-ES" sz="3200" spc="-1" strike="noStrike">
                <a:solidFill>
                  <a:srgbClr val="000000"/>
                </a:solidFill>
                <a:latin typeface="Calibri"/>
              </a:rPr>
              <a:t>taza</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fuera</a:t>
            </a:r>
            <a:r>
              <a:rPr b="1" lang="es-ES" sz="3200" spc="-1" strike="noStrike">
                <a:solidFill>
                  <a:srgbClr val="000000"/>
                </a:solidFill>
                <a:latin typeface="Calibri"/>
              </a:rPr>
              <a:t>	</a:t>
            </a:r>
            <a:r>
              <a:rPr b="1" lang="es-ES" sz="3200" spc="-1" strike="noStrike">
                <a:solidFill>
                  <a:srgbClr val="000000"/>
                </a:solidFill>
                <a:latin typeface="Calibri"/>
              </a:rPr>
              <a:t>cuerda</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erro</a:t>
            </a:r>
            <a:r>
              <a:rPr b="1" lang="es-ES" sz="3200" spc="-1" strike="noStrike">
                <a:solidFill>
                  <a:srgbClr val="000000"/>
                </a:solidFill>
                <a:latin typeface="Calibri"/>
              </a:rPr>
              <a:t>	</a:t>
            </a:r>
            <a:r>
              <a:rPr b="1" lang="es-ES" sz="3200" spc="-1" strike="noStrike">
                <a:solidFill>
                  <a:srgbClr val="000000"/>
                </a:solidFill>
                <a:latin typeface="Calibri"/>
              </a:rPr>
              <a:t>sombrero</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1" lang="es-ES" sz="3200" spc="-1" strike="noStrike">
                <a:solidFill>
                  <a:srgbClr val="000000"/>
                </a:solidFill>
                <a:latin typeface="Calibri"/>
              </a:rPr>
              <a:t>llave</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eseo</a:t>
            </a:r>
            <a:r>
              <a:rPr b="1" lang="es-ES" sz="3200" spc="-1" strike="noStrike">
                <a:solidFill>
                  <a:srgbClr val="000000"/>
                </a:solidFill>
                <a:latin typeface="Calibri"/>
              </a:rPr>
              <a:t>	</a:t>
            </a:r>
            <a:r>
              <a:rPr b="1" lang="es-ES" sz="3200" spc="-1" strike="noStrike">
                <a:solidFill>
                  <a:srgbClr val="000000"/>
                </a:solidFill>
                <a:latin typeface="Calibri"/>
              </a:rPr>
              <a:t>muñeca</a:t>
            </a:r>
            <a:endParaRPr b="0" lang="en-US" sz="3200" spc="-1" strike="noStrike">
              <a:solidFill>
                <a:srgbClr val="ffffff"/>
              </a:solidFill>
              <a:latin typeface="Arial"/>
            </a:endParaRPr>
          </a:p>
        </p:txBody>
      </p:sp>
      <p:sp>
        <p:nvSpPr>
          <p:cNvPr id="420" name="Text Box 4"/>
          <p:cNvSpPr/>
          <p:nvPr/>
        </p:nvSpPr>
        <p:spPr>
          <a:xfrm>
            <a:off x="990720" y="609480"/>
            <a:ext cx="9903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etra</a:t>
            </a:r>
            <a:endParaRPr b="0" lang="en-US" sz="1800" spc="-1" strike="noStrike">
              <a:solidFill>
                <a:srgbClr val="ffffff"/>
              </a:solidFill>
              <a:latin typeface="Arial"/>
            </a:endParaRPr>
          </a:p>
        </p:txBody>
      </p:sp>
      <p:sp>
        <p:nvSpPr>
          <p:cNvPr id="421" name="Text Box 7"/>
          <p:cNvSpPr/>
          <p:nvPr/>
        </p:nvSpPr>
        <p:spPr>
          <a:xfrm>
            <a:off x="7086600" y="685800"/>
            <a:ext cx="110808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labra</a:t>
            </a:r>
            <a:endParaRPr b="0" lang="en-US" sz="1800" spc="-1" strike="noStrike">
              <a:solidFill>
                <a:srgbClr val="ffffff"/>
              </a:solidFill>
              <a:latin typeface="Arial"/>
            </a:endParaRPr>
          </a:p>
        </p:txBody>
      </p:sp>
      <p:sp>
        <p:nvSpPr>
          <p:cNvPr id="422" name="Text Box 3"/>
          <p:cNvSpPr/>
          <p:nvPr/>
        </p:nvSpPr>
        <p:spPr>
          <a:xfrm>
            <a:off x="685800" y="5410080"/>
            <a:ext cx="342900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egunte cualesquiera cinc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de 5 deberán estar correctas.</a:t>
            </a:r>
            <a:endParaRPr b="0" lang="en-US" sz="1800" spc="-1" strike="noStrike">
              <a:solidFill>
                <a:srgbClr val="ffffff"/>
              </a:solidFill>
              <a:latin typeface="Arial"/>
            </a:endParaRPr>
          </a:p>
        </p:txBody>
      </p:sp>
      <p:sp>
        <p:nvSpPr>
          <p:cNvPr id="423" name="Rectangle 9"/>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5"/>
          <p:cNvSpPr/>
          <p:nvPr/>
        </p:nvSpPr>
        <p:spPr>
          <a:xfrm>
            <a:off x="0" y="2728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Text Box 3"/>
          <p:cNvSpPr/>
          <p:nvPr/>
        </p:nvSpPr>
        <p:spPr>
          <a:xfrm>
            <a:off x="4648320" y="5410080"/>
            <a:ext cx="380988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egunte cualesquiera cinc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de 5 deberán estar correct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450720" y="249120"/>
            <a:ext cx="8541000" cy="116532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Recorte del periódico</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Folleto informativo</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Recorte de revista</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Incorpore 3 preguntas de comprensió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Éste es el ‘alfabetismo funcional’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08:09:10Z</dcterms:created>
  <dc:creator>Isabelle Carboni</dc:creator>
  <dc:description/>
  <dc:language>en-US</dc:language>
  <cp:lastModifiedBy> </cp:lastModifiedBy>
  <dcterms:modified xsi:type="dcterms:W3CDTF">2012-12-18T19:19:19Z</dcterms:modified>
  <cp:revision>20</cp:revision>
  <dc:subject/>
  <dc:title>Functional Literacy Assessment Tool</dc:title>
</cp:coreProperties>
</file>